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529-CB0D-4AED-BB68-984861E8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52C9-E5E9-4D73-A866-3BFF4501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31DC-A5EF-4375-8FB8-4DC71119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BDAF-383D-4724-ACE2-BA2A05157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87F9-A2BA-49E5-8459-809A11B9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E6E1-9CCA-43BB-9B57-06281EFB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8844-2017-4C80-B7DF-625FD437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F79-0613-4F4D-B837-D860175B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4F50-5B8D-4FE3-A05D-AA1A582B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B17A-B00E-4330-92BA-37BE9543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47D2-977A-46F9-A5EC-B0507274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81E3-B447-4932-9E61-0A862F47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2175-06D8-4A39-882C-90BCED01A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2743200" cy="5477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48320" y="4038480"/>
            <a:ext cx="838080" cy="1676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6200000">
            <a:off x="4159080" y="4476600"/>
            <a:ext cx="180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DS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t matching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4038480"/>
            <a:ext cx="838080" cy="1676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3307320" y="4546080"/>
            <a:ext cx="167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RAM Bfly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read mac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31760" y="3276720"/>
            <a:ext cx="182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rray leak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4152960" y="2781360"/>
            <a:ext cx="838080" cy="1676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1219320"/>
            <a:ext cx="457200" cy="1752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14800" y="1219320"/>
            <a:ext cx="914400" cy="914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14800" y="2133720"/>
            <a:ext cx="533520" cy="914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143000"/>
            <a:ext cx="304920" cy="914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2133720"/>
            <a:ext cx="685800" cy="914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2971800"/>
            <a:ext cx="457200" cy="228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48320" y="4038480"/>
            <a:ext cx="83808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4142160" y="4547520"/>
            <a:ext cx="175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wm_vtmm_macro_fdsoi180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4038480"/>
            <a:ext cx="83808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3261960" y="45860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wm_bfly_macro_fdsoi18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3276720"/>
            <a:ext cx="16761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wm_alm_macro_fdsoi18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4152960" y="2781360"/>
            <a:ext cx="8380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1219320"/>
            <a:ext cx="4572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219320"/>
            <a:ext cx="9144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2133720"/>
            <a:ext cx="5331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1143000"/>
            <a:ext cx="3045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2133720"/>
            <a:ext cx="6858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2971800"/>
            <a:ext cx="457200" cy="228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160" y="380880"/>
            <a:ext cx="33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in Chip block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68160" y="16765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G_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1981080"/>
            <a:ext cx="533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92600" y="251460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fb_a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4767840" y="1505880"/>
            <a:ext cx="9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Yw_buck_fi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3074400" y="2054880"/>
            <a:ext cx="170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c_topLevelNBTI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63760" y="2590920"/>
            <a:ext cx="131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c_inv_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289548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209520"/>
            <a:ext cx="670572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7:54:19Z</dcterms:created>
  <dc:creator>rmann</dc:creator>
  <dc:description/>
  <dc:language>en-US</dc:language>
  <cp:lastModifiedBy>rmann</cp:lastModifiedBy>
  <dcterms:modified xsi:type="dcterms:W3CDTF">2010-05-11T14:23:32Z</dcterms:modified>
  <cp:revision>6</cp:revision>
  <dc:subject/>
  <dc:title>Slide 1</dc:title>
</cp:coreProperties>
</file>